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79D6-639F-4EB0-8611-2F9FD2C9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ytimes.com/2009/01/11/magazine/11Genome-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4FA-50BB-4087-A5BB-A42D4A21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0A2-CA50-45FB-BFF5-43359F2B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3A2-0708-485A-9AF4-AFA37715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CA6-2FA8-4B54-B177-D6BBDF95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EA1-C15A-4130-8B37-0C6C1471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CB0-E115-4F06-8B20-7F88C4C0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52D-0931-48D1-969C-82AE7AB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E8B-2CBD-4FF5-A1C5-84011595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133-5873-4ED1-B006-BD1A29B2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7C1-0F71-4D80-94EA-3D77A476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743-5D5E-4265-BFBC-0367F89D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C2F-E8BE-4E62-ADCA-47E68BD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1BE3-5D61-4ECF-85DF-07AD57F96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eglobeandmail.com/news/national/time-to-lead/the-personal-genome-project-a-brave-new-world-for-science-and-privacy/article6089124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Time To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NA Di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Series in the Globe &amp; M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00 Canadians are being ask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will be placed on an online database, open and available to anyone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vide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heglobeandmail.com/news/national/time-to-lead/the-personal-genome-project-a-brave-new-world-for-science-and-privacy/article608912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209600"/>
            <a:ext cx="7772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ven Pi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st &amp; professor at 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d in the Personal Genome Project in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his genome, he has an 80% chance of being b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32004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tly there is still a lot more to be learned about the how genes determine characteristics and how gene expression is controll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065240"/>
            <a:ext cx="78487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cer In the Fami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want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vide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heglobeandmail.com/news/national/time-to-lead/cancer-in-the-family-sisters-search-for-answers/article5929337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Discr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is the only G8 country with no laws against genetic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Erno family’s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heglobeandmail.com/news/national/time-to-lead/video-alberta-couple-struggles-with-the-results-of-a-genetic-test/article6089127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found out that you had a gene variant for a dis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Chad Sapieha decided to 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heglobeandmail.com/news/national/time-to-lead/a-genetic-test-solves-a-hereditary-mystery-and-saves-a-life/article6131121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6:19:50Z</dcterms:created>
  <dc:creator>rubina khan</dc:creator>
  <dc:description/>
  <dc:language>en-US</dc:language>
  <cp:lastModifiedBy>rubina khan</cp:lastModifiedBy>
  <dcterms:modified xsi:type="dcterms:W3CDTF">2012-12-14T07:00:08Z</dcterms:modified>
  <cp:revision>17</cp:revision>
  <dc:subject/>
  <dc:title>Our Time To Lead</dc:title>
</cp:coreProperties>
</file>